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5F6D-2CA7-4840-A70B-2169DCF8A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F398-FD0A-40FD-9033-EE4540EF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AEDB-C978-481F-B2FA-9BBC87087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5DBC-BAE9-49D3-8A2B-A406B399B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AAFE-01C5-4093-B99F-0EB0831C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700E-26C8-469A-B5C3-E9280F24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A3DE-CB92-4DAD-8B60-42AC6B0A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F0BE-869E-4557-A0E8-65150E05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EC72-E1B8-4136-80E2-3AC82D04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47EC-84AB-4F3E-BDFB-D45AAB1D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D93E-3FC4-479A-AE46-8FF14F7B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2A5C-2712-4510-B7E0-629E8841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0519-5966-4BA0-B91D-781300C97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MIJLOACE DE MĂSURARE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ultură de specialitate pentru Şcolile de Arte şi Meserii – domeniul mecanic- clasa a I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Adriana Popescu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- SIMULAR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4267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Mijloace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 măsurare reprezintă totalitatea mijloacelor tehnice cu care se determină cantitativ mărimea de măsurat.</a:t>
            </a: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 Şabloane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nt măsuri terminale executate din tablă cu diferite profile, în funcție de piesele care se controlează.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icrometru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e un aparat la care deplasările unghiulare se transform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în deplasări liniare și care este utilizat pentru măsurarea lungimilor.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Lungime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o mărime fizică fundamentală în Sistemul Internaţion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Unitatea de măsură pentru lungime este metrul, m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Sticla plan-paralelă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o măsură terminală cu valoare unică, din sticlă, cu suprafeţe plane şi paralel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alele plan-parale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unt măsuri terminale a căror mărime este determinată de distanţa dintre două suprafeţe de măsurare plane şi paralele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tilizarea calelor se bazează pe proprietatea lor de a adera una pe alta, pe suprafeţele de măsurare, printr-o uşoară apăsare şi o mişcare tangenţială de deplasare, formându-se u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bloc de cal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care poate avea orice dimensiune. Dimensiunea blocului de cale este egală cu suma lungimilor calelor component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294336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lasificarea calibrelor nete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piesa pe care o controleaz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pentru arb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pentru aleza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diametrul limită care verifică piese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partea trece 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partea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nu trece NT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 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destinaţ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de luc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de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de recep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calib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Admin</cp:lastModifiedBy>
  <dcterms:modified xsi:type="dcterms:W3CDTF">2010-01-19T07:36:03Z</dcterms:modified>
  <cp:revision>21</cp:revision>
  <dc:subject/>
  <dc:title>MIJLOACE DE MĂSURA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